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C9302-E10C-44C8-AE64-1F6C62AE8890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E0C1D-C604-44B4-AA12-0C07A91180C1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3BAC0-E7FF-47A2-9A53-E806CA40C96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0CBB0-74B2-4C35-B076-5ACDD7710C44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71C4F-A2C9-454C-ADA8-01308070F85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864E5-9C05-4985-88FE-D20B5E9F6A5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F12CC-D1BA-433E-81F6-729BFF295AD0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26E62-5F21-4B5A-AEDA-F62AFF4444C3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EEF55-4003-48A8-A96F-B494FC1D7471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27937-CD01-4306-B954-6AD4BD290494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04A2C-5E2F-4D06-BBCB-376EECCC5586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BB394-0E4F-43EE-93EA-B89E21006E1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B302B-29A2-4D1A-AC82-944E5CC43E8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85347-3DA7-45A4-A874-5342914A15D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4F734-1EE1-4818-B048-BC57B2D81832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2893C-A585-432C-A333-059A0DFA1936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0B1BA-5CA9-482E-A477-D2F08CF87E4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37EA2-C7FB-4C80-969F-CC5CA452726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9D206-7427-4B0C-8A05-DA936C47679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97C47-1071-4573-B4D8-8F6A311F3A3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A5B71-B3FC-4A33-A5F9-4EA753D6CF10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EA2EB-85B2-445A-93AA-137C66D47D14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5B4CD-6F16-488E-A525-6BC9424DF12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AFEBB-2868-4FF0-8B24-86BF8ED33081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D9FAD-83F1-4813-AF7E-2F421A5079F1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C7F9A-A418-44E3-AB41-BBBC0848733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B1925-8F8C-452B-9368-BE6547EAAF75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C9FEC-4264-4E8B-ADC9-DCCAED2085C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FDCBC-4D8F-4DBD-A356-6AED601ED37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A1031-634D-4333-B96E-6BC4996A8B7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55DE4-B76A-466E-B8A2-443E7B201265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06C4A-0D3E-4440-80E0-B8428FE47D8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388B0-CD52-441A-8863-3F0A92EF3E8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72E1-BA87-4340-BA22-028291A04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000" y="441900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539D-8355-4384-876D-1EC00D7A1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944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11F2-E3FD-43E4-8B61-91240FBB7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068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136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00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068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136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C099-03A8-4643-AE7E-DB4DC6461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FA6CC-E510-4FF6-A1E5-38FA5434A3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82580-12CB-4157-B7B9-A2B27D2B51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0035-ACE1-46A9-8CC0-3A00753B6F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B1F27-1F9B-4A65-BED2-4B6D380269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7CB83-8B17-4C21-AAD2-6690B5C0EE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028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DDA69-2048-4780-8B57-4CE1DEB41F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4F50-D447-4DF6-A35A-E677EBFBCF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C312-CD58-41DA-9917-DE5E28CDE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944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F51DA-E9A6-4359-9535-3B41EA421C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921D-8E34-4715-AEC4-6189E61F55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000" y="441900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9334-1E54-4BA5-8533-79A03B7044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944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B34D-4FE4-4AE9-95A7-3A49FD2646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068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136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00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068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136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4B0C-585E-4D87-9566-C982733170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28C9-0332-44BC-A6C0-17526781B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38D4-6F55-4475-95A6-FD3391086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FC8B-8054-42B7-A72B-82EA7F134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028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3603-4B86-44C2-8325-BDE48A815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2D8C-6B87-4B4A-A909-8F2F3A491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944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0C49-867D-4256-BB60-9E1345F46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3D6B-6F2F-4D25-A7D3-4A9AB3783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7559640" y="6840360"/>
            <a:ext cx="233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1079640" y="6840360"/>
            <a:ext cx="32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178920" y="6840000"/>
            <a:ext cx="530280" cy="53028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6F436-2F5F-484C-8130-FB4E667CF9FA}" type="slidenum">
              <a:rPr b="1" lang="it-IT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330360"/>
            <a:ext cx="9350280" cy="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4680000"/>
            <a:ext cx="9171000" cy="25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7559640" y="6840360"/>
            <a:ext cx="23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79640" y="6840360"/>
            <a:ext cx="32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178920" y="6840000"/>
            <a:ext cx="5302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4839B-DD9D-4C00-AFCE-A65740A7236F}" type="slidenum">
              <a:rPr b="1" lang="it-IT" sz="2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RT-FS-DATI10/dati10/MIT/MOB_DOLCE/FSC/Progetti%20Presentati/Primo%20Avviso/Figline%20e%20Incisa/154159642506735-1-UP0_BLOB_ARRIVO/Documentazione/Tav%20A04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88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iano Operativo FSC 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Infrastrutture 2014-2020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475160" y="243000"/>
            <a:ext cx="525600" cy="88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9BB9A-9678-469D-87E8-83F892E47C56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rovincia di Arezz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71280" y="1584360"/>
          <a:ext cx="9722160" cy="517536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0991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il progetto risolve il collegamento in sicurezza tra i tratti già finanziati posti a monte e a valle, di cui il progetto costituisce un continuu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, di lunghezza limitata pari a 640 m, ma di complessa realizzazione prevede solo  tratti in sede propria;  l’intervento risente dei vincoli dettati dall’orografia e  prevede il passaggio in prossimità della strada provinciale per migliorarne la fruibilità; necessario il passaggio in area protetta e, quindi, la relativa autorizzazione (tratto 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9724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DA VALUTARE LA SCELTA DELLA TIPOLOGIA DI SOTTOFONDO DA UTILIZZARE (tratti 3 e 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L’INTERVENTO DOVRÀ ESSERE COMPATIBILE CON L’ADEGUAMENTO DI PERCORSI ESISTENTI ALL’INTERNO DELLA RISERVA NATURALE DI BANDELLA  (VEDI STUDIO DI INCIDENZA TRATTI GIA’ FINANZIA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ERIFICARE LA CORRETTA ATTRIBUZIONE DELLE VOCI DI SPESA RISPETTO ALL’AMMISSIBILITÀ A CONTRIBUTO (Delibera della GR 758/201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FCFDF-6EF8-467A-98A1-E439CB1F1E80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4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rovincia di Arezzo – Ammissibilità delle spes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28760" y="1655640"/>
            <a:ext cx="917892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1373040" y="1655640"/>
            <a:ext cx="7334280" cy="4248360"/>
          </a:xfrm>
          <a:prstGeom prst="rect">
            <a:avLst/>
          </a:prstGeom>
          <a:ln w="0">
            <a:noFill/>
          </a:ln>
        </p:spPr>
      </p:pic>
      <p:sp>
        <p:nvSpPr>
          <p:cNvPr id="152" name="Rettangolo 1"/>
          <p:cNvSpPr/>
          <p:nvPr/>
        </p:nvSpPr>
        <p:spPr>
          <a:xfrm>
            <a:off x="193680" y="6195960"/>
            <a:ext cx="7583400" cy="949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Source Sans Pro"/>
              </a:rPr>
              <a:t>SPESE TECNICHE </a:t>
            </a:r>
            <a:r>
              <a:rPr b="0" i="1" lang="it-IT" sz="1800" spc="-1" strike="noStrike">
                <a:solidFill>
                  <a:srgbClr val="ff0000"/>
                </a:solidFill>
                <a:latin typeface="Source Sans Pro"/>
              </a:rPr>
              <a:t>fino ad un massimo del 10 % dell’importo a base d’appalto,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Source Sans Pro"/>
              </a:rPr>
              <a:t>comprensivo degli oneri della sicurezza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3" name="Ovale 2"/>
          <p:cNvSpPr/>
          <p:nvPr/>
        </p:nvSpPr>
        <p:spPr>
          <a:xfrm>
            <a:off x="7128000" y="3419640"/>
            <a:ext cx="122544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cxnSp>
        <p:nvCxnSpPr>
          <p:cNvPr id="154" name="Connettore 2 4"/>
          <p:cNvCxnSpPr/>
          <p:nvPr/>
        </p:nvCxnSpPr>
        <p:spPr>
          <a:xfrm flipV="1">
            <a:off x="6408720" y="3995280"/>
            <a:ext cx="1008720" cy="22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9C020-ADD9-4428-8384-159EA89B4579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Sinalung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1280" y="1584360"/>
          <a:ext cx="9722160" cy="599112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0991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si tratta di un collegamento tra il tracciato principale del Sentiero della Bonifica con i centri urbani di Sinalunga (stazione) e Bettole, nonché con alcune itinerari di interesse regionale (Lauretana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prevede la realizzazione di due nuovi tratti per un complesso di 12 km passanti da zone a buona valenza storico paesaggistica; da valutare un miglioramento degli interventi proposti, in particolare sul fondo, che sembrano essere insufficienti a garantire la fruizione ciclist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492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NECESSARIO CHIARIRE LO STATO DEL PERCORSO, IN PARTICOLARE I «TRATTI ERBOSI» E LE STRADE BIANCHE, PER COMPRENDERE SE RIDURRE LA LUNGHEZZA DEL PERCORSO MIGLIORANDONE LA QUALIT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 PER I NUOVI TRATTI CICLABIL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APPROFONDIRE  LE MODALITÀ DI PASSAGGIO SU PONTI ESISTENTI E PER I QUALI NON E’ PREVISTA RIQUALIFICAZIONE PER GARANTIRE LA SICUREZZA DEGLI UTENT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ATTRAVERSAMENTI SU SP DA VALUTARE SE NECESSARIO SEMAFORO A CHIAMATA (LIVELLO DI TRAFFIC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SC DEL SANTARELLO A BASSA INTENSITÀ DI TRAFFICO-&gt; CHIARIRE COSA SI INTENDE PER DIMINUZIONE DELLA  VELOCITÀ CONSENTI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5C3E4-18CC-4DC0-AD3E-D786B8752270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Sansepolcr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71280" y="1584360"/>
          <a:ext cx="9722160" cy="581508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07260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percorso lungo ben 23 km di connessione tra le Ciclovie dell’Arno e la Tiberina che ricalca la «ciclovia dei 2 mari» presente nel PRIIM. L’intervento rappresenta il primo stralcio di un progetto denominato “ itinerario tra il fiume Arno e Tevere….” inserito nel piano provinciale della mobilità della Provincia di Arezzo, oltre che nel PRIIM e nel PIT.  La continuità è immediatamente realizzata con la Ciclovia Tiber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prevede il collegamento tra gli abitati di Le Ville, Anghiari e Sansepolcro lungo la vecchia ferrovia dismessa Arezzo-Fossato di Vico; permette perciò il collegamento tra località ad alto potenziale turistico, la stazione di Sansepolcro, polo di interscambio modale, e la Regione Umbria; in parte sede propria e principalmente con tratti promiscui con traffico ridotto; presenti alcune criticità non risol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4468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DA ESCLUDERE INTERVENTI DI MANUTENZIONE ORDINA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 PER INTERVENTI DI NUOVA REALIZZAZI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22523-30B3-4D84-9054-FF470F14D07E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Calcinai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71280" y="1584360"/>
          <a:ext cx="9722160" cy="515304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22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07792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il progetto risolve il collegamento in sicurezza tra i tratti in fase di realizzazione di Cascina e Pontedera della Ciclopista dell’Arn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, nonostante ha lunghezza limitata pari a 5,9 km, prevede sia  tratti in sede propria che in promiscuo; si tratta di un itinerario a valenza cicloturistica, più che di mobilità urba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71288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 PER I TRATTI DI NUOVA REALIZZAZI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CHIARIRE LA TIPOLOGIA DI ATTRAVERSAMENTO DELLA SR TOSCO-ROMAGN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PER LE AREE DI SOSTA UTILIZZARE MODELLO TIP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0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971D8-293A-48FE-B9D5-1B8D6F673CE6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Montignos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1280" y="1584360"/>
          <a:ext cx="9722160" cy="517536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34252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il progetto è funzionale  al completamento di ampi tratti già percorribili a nord (comune di Massa) e a sud (Comune di Forte dei Marmi e seguire); con un intervento di lunghezza molto limitata (0,73 km) rende percorribile con continuità tutto il tracciato litoraneo delle province di Massa e Carrara e Lucc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di lunghezza limitata prevede un percorso completamente in sede propria (con larghezza di 3 metri, affiancata da marciapiede pedonale di 1,6 metri) e la realizzazione di un’area di sos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4468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RENDERE COERENTE IL CROPROGRAMMA LAVORI DELLA DOMANDA DI PARTECIPAZIONE E IL CRONOPROGRAMMA DEL PROGETTO (5 MESI INVECE DI 4)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DA DEFINIRE LA TIPOLOGIA DELLE RASTRELLIERE BICI, CHE DOVRÀ ESSERE DEL TIPO “BLOCCATELAIO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5CC84-53C1-4911-94EE-8A2F76FEF327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San Miniat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108000" y="1474920"/>
          <a:ext cx="9864720" cy="5986440"/>
        </p:xfrm>
        <a:graphic>
          <a:graphicData uri="http://schemas.openxmlformats.org/drawingml/2006/table">
            <a:tbl>
              <a:tblPr/>
              <a:tblGrid>
                <a:gridCol w="986472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85580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la lunghezza complessiva dei tracciati è di 13 km. Da rilevare che si tratta di tratte che congiungono i centri principali in riva destra dell’Arno, come previsto dall’Accordo del 2015 e in accordo con il PRIIM che prevede la Ciclopista in riva destra (allegato C. 9 del PRIIM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proposto raggiunge i principali centri abitati lungo la ciclopista, creando una rete percorribile in sicurezz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492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IGNIFICATIVITÀ DI ALCUNI TRA I TRATTI PROPOSTI (Castelfranco di Sotto -&gt; prosecuzione dal centro urbano verso la nuova rotonda; Comune di Cerreto Guidi -&gt; tratto di Ripoli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 PER I TRATTI DI NUOVA REALIZZAZI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TEGRARE IL CRONOPROGRAMMA GENERALE CON IL  CRONOPROGRAMMA DI CERRETO GUI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DA VALUTARE  LE MODALITÀ DI ATTRAVERSAMENTO IN SICUREZZA DEL PONTE DI MARCIGNA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PREVEDERE SEGNALETICA CONFORME ALLA CICLOVIA A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9EB4E-3ADC-4173-9467-D2E01EC2A8B1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FASI COPROGETTAZION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-1440" y="1631880"/>
          <a:ext cx="9721800" cy="4983120"/>
        </p:xfrm>
        <a:graphic>
          <a:graphicData uri="http://schemas.openxmlformats.org/drawingml/2006/table">
            <a:tbl>
              <a:tblPr/>
              <a:tblGrid>
                <a:gridCol w="9721800"/>
              </a:tblGrid>
              <a:tr h="73152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Source Sans Pro Black"/>
                          <a:ea typeface="源ノ角ゴシック Heavy"/>
                        </a:rPr>
                        <a:t>- VALUTAZIONE PROGETTO E INDIVIDUAZIONE 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7066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Source Sans Pro Black"/>
                          <a:ea typeface="源ノ角ゴシック Heavy"/>
                        </a:rPr>
                        <a:t>- APERTURA FASE DI COPROGET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66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- SOPRALLUOGHI E APPROFONDIMEN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066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- CONSEGNA DEI PROGETTI REVISIONA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287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- VALUTAZIONE DI COERENZA dei progetti revisionati con le proposte originarie e IDENTIFICAZIONE DEL CONTRIBUTO nei limiti del budget massimo concedibile già stabil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3287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- CHIUSURA FASE DI COPROGETTAZIONE CON AMMISSIONE A FINANZIAMENTO DEI PROGETTI E STIPULA DELLE RELATIVE CONVENZIONI tra la regione egli enti beneficia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06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0E549-AC98-4A61-920D-3FC2619E1EAB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Figline e Incisa Valdarn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31680" y="1522440"/>
          <a:ext cx="9721800" cy="5288040"/>
        </p:xfrm>
        <a:graphic>
          <a:graphicData uri="http://schemas.openxmlformats.org/drawingml/2006/table">
            <a:tbl>
              <a:tblPr/>
              <a:tblGrid>
                <a:gridCol w="972180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85580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l progetto risolve le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problematiche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attualmente esistenti nel Comune di Figline e Incisa che impediscono il collegamento in sicurezza tra il tratto realizzato a Figline e il tratto progettato nel Comune di San Giovanni; risolve inoltre il passaggio sul torrente Cesto nei periodi non siccitosi (attualmente esiste un guad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nterventi limitati ma sostanzialmente conformi alle necessità presen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53296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GARANTIRE STESSA FUNZIONALITA’ CICLOVIA ARNO (CICLOVIA SOLE) ; TRATTO  A-A0 – VALUTARE LA POSSIBILITA’ DI ALLARGARE A 3 M; PREVEDERE SEGNALETICA CONFORME ALLA CICLOVIA A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ERIFICARE CHE LE CARATTERISTICHE DELLA PASSERELLA SUL CESTO SIANO TALI DA GARANTIRE LA COERENZA CON IL PD DELLA CASSA DI ESPANSIONE «RESTONE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ERIFICARE CHE L’ALTEZZA DEL PARAPETTO + CORRIMANO (ALTEZZA DELLE SPALLETTE) SIA PARI AD ALMENO 150 CM (VEDI DM 557/1999 PER SOVRAPPASSI) </a:t>
                      </a:r>
                      <a:r>
                        <a:rPr b="0" lang="it-IT" sz="1600" spc="-1" strike="noStrike" u="sng">
                          <a:solidFill>
                            <a:srgbClr val="ccccff"/>
                          </a:solidFill>
                          <a:uFillTx/>
                          <a:latin typeface="Source Sans Pro Semibold"/>
                          <a:hlinkClick r:id="rId2"/>
                        </a:rPr>
                        <a:t>TAVOLA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5142D-72EF-4223-A924-412FEC6D2CDB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Pontassiev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71280" y="1584360"/>
          <a:ext cx="9722160" cy="559584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85580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il progetto, che coinvolge un tratto piuttosto lungo, risolve il collegamento in sicurezza tra i tratti realizzati di Firenze-Girone e Figline e Incisa Valdarno della Ciclovia dell’Arn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presenta varie tipologie di tracciato e sottofondo; potrebbe essere migliorato in alcuni tratti, in particolare nei Comuni di Fiesole e Pontassieve, identificando un tracciato più aderente all’asta fluv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82708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POSSIBILITÀ DI IDENTIFICARE UN TRACCIATO PIÙ ADERENTE ALL’ASTA FLUVIALE E CON PENDENZE PIU’ IDONEE AD UN UTENZA CICLOTURISTICA-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lvl="1" marL="7430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TRATTO GIRONE - COMPIOBBI VEDI QUANTO PROPOSTO IN SEDE DI PFE DELLA </a:t>
                      </a:r>
                      <a:r>
                        <a:rPr b="1" lang="it-IT" sz="1400" spc="-1" strike="noStrike" u="sng">
                          <a:solidFill>
                            <a:srgbClr val="ff0000"/>
                          </a:solidFill>
                          <a:uFillTx/>
                          <a:latin typeface="Source Sans Pro Semibold"/>
                          <a:ea typeface="源ノ角ゴシック Medium"/>
                        </a:rPr>
                        <a:t> CICLOVIA DEL SO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lvl="1" marL="7430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TRATTO COMPIOBBI - LE FALLE – PERCORSO IN SEDE PROPRIA SUL LATO SINISTRO DELLA SS67/ARGINE ARNO +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lvl="1" marL="7430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ATTRAVERSAMENTO DELL’ABITATO ELLERA SUL VECCHIO TRACCIATO DELLA STATALE, ANCHE IN PROMISCU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lvl="1" marL="7430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TRATTO LE FALLE – SIECI – PASSAGGIO SULL’ARGINE DEL FIUME  A MARGINE DEI CAMP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FFE98-536E-458A-8FCF-C7A9ED4B6658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FONDO NON ASFALTAT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206280" y="1446120"/>
            <a:ext cx="7334280" cy="59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0B626-AEA1-4903-B7AC-286DAC1A9F24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LR 41/2018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280" y="1619280"/>
            <a:ext cx="10009440" cy="57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rt.  3 – Tutela dei corsi d’acqua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egli alvei, nelle golene, sugli argini e nelle aree comprendenti le due fasce di larghezza di dieci metri dal piede esterno dell'argine o, in mancanza, dal ciglio di sponda dei corsi d’acqua del reticolo idrografico sono consentiti :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…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f) itinerari ciclopedonali;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Gli interventi  sono </a:t>
            </a: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consentiti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previa autorizzazione della struttura regionale  competente (Settore Difesa del Suolo)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che verifica la compatibilità idraulica nel rispetto delle seguenti condizioni: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sia assicurato il miglioramento o la non alterazione del buon regime delle acqu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interferiscano con esigenze di regimazione idraulica, accessibilità e manutenzione del corso d'acqua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siano compatibili con la presenza di opere idraulich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interferiscano con la stabilità del fondo e delle spond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vi sia aggravio del rischio in altre aree derivante dalla realizzazione dell'intervento;</a:t>
            </a:r>
            <a:r>
              <a:rPr b="1" lang="it-IT" sz="1800" spc="-1" strike="noStrike">
                <a:solidFill>
                  <a:srgbClr val="ffffff"/>
                </a:solidFill>
                <a:latin typeface="Source Sans Pro Semibold"/>
              </a:rPr>
              <a:t>oi sia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aggravio del rischio per le persone e per l'immobile oggetto dell'intervento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siano adottate nei piani comunali di protezione civile misure per regolarne l'utilizzo in caso di eventi alluvionali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6744D-E62D-4346-B0CC-03B4C4F83F80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88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LR 41/2018 -</a:t>
            </a:r>
            <a:r>
              <a:rPr b="1" lang="it-IT" sz="3200" spc="-1" strike="noStrike">
                <a:solidFill>
                  <a:srgbClr val="ffffff"/>
                </a:solidFill>
                <a:latin typeface="Source Sans Pro Semibold"/>
              </a:rPr>
              <a:t>Disposizioni in materia di rischio di alluvioni e di tutela dei corsi d’acqu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87280" y="1619280"/>
            <a:ext cx="9433080" cy="57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rt.  3 – Tutela dei corsi d’acqua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egli alvei, nelle golene, sugli argini e nelle aree comprendenti le due fasce di larghezza di dieci metri dal piede esterno dell'argine o, in mancanza, dal ciglio di sponda dei corsi d’acqua del reticolo idrografico sono consentiti :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…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f) itinerari ciclopedonali;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Gli interventi  sono </a:t>
            </a: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consentiti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previa autorizzazione della struttura regionale  competente (Settore Difesa del Suolo)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che verifica la compatibilità idraulica nel rispetto delle seguenti condizioni: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sia assicurato il miglioramento o la non alterazione del buon regime delle acqu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interferiscano con esigenze di regimazione idraulica, accessibilità e manutenzione del corso d'acqua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siano compatibili con la presenza di opere idraulich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interferiscano con la stabilità del fondo e delle spond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vi sia aggravio del rischio in altre aree derivante dalla realizzazione dell'intervento;</a:t>
            </a:r>
            <a:r>
              <a:rPr b="1" lang="it-IT" sz="1800" spc="-1" strike="noStrike">
                <a:solidFill>
                  <a:srgbClr val="ffffff"/>
                </a:solidFill>
                <a:latin typeface="Source Sans Pro Semibold"/>
              </a:rPr>
              <a:t>i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vi sia aggravio del rischio per le person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D69A0-5A65-4AD8-9EBA-DA66DFA14FB2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88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LR 41/2018 -</a:t>
            </a:r>
            <a:r>
              <a:rPr b="1" lang="it-IT" sz="3200" spc="-1" strike="noStrike">
                <a:solidFill>
                  <a:srgbClr val="ffffff"/>
                </a:solidFill>
                <a:latin typeface="Source Sans Pro Semibold"/>
              </a:rPr>
              <a:t>Disposizioni in materia di rischio di alluvioni e di tutela dei corsi d’acqu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47840" y="1619280"/>
            <a:ext cx="9178920" cy="57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rt.  13 – Infrastrutture lineari o a rete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Gli </a:t>
            </a:r>
            <a:r>
              <a:rPr b="0" lang="it-IT" sz="2000" spc="-1" strike="noStrike">
                <a:solidFill>
                  <a:srgbClr val="ff0000"/>
                </a:solidFill>
                <a:latin typeface="Source Sans Pro Semibold"/>
              </a:rPr>
              <a:t>itinerari ciclopedonali 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possono essere realizzati nelle</a:t>
            </a:r>
            <a:r>
              <a:rPr b="1" lang="it-IT" sz="2000" spc="-1" strike="noStrike">
                <a:solidFill>
                  <a:srgbClr val="ffffff"/>
                </a:solidFill>
                <a:latin typeface="Source Sans Pro Semibold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Source Sans Pro Semibold"/>
              </a:rPr>
              <a:t>aree a pericolosità per alluvioni frequenti o poco frequenti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, indipendentemente dalla magnitudo idraulica, nel rispetto delle seguenti condizioni:</a:t>
            </a: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venga assicurato il non aggravio delle condizioni di rischio</a:t>
            </a: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siano previste le </a:t>
            </a:r>
            <a:r>
              <a:rPr b="1" lang="it-IT" sz="2000" spc="-1" strike="noStrike">
                <a:solidFill>
                  <a:srgbClr val="ff0000"/>
                </a:solidFill>
                <a:latin typeface="Source Sans Pro Semibold"/>
              </a:rPr>
              <a:t>misure preventive atte a regolarne 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l'utilizzo in caso di eventi alluvionali</a:t>
            </a: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2C6CD-3F68-45BC-AF62-D08825518398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Cavrigli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50760" y="1474920"/>
          <a:ext cx="9721800" cy="5154480"/>
        </p:xfrm>
        <a:graphic>
          <a:graphicData uri="http://schemas.openxmlformats.org/drawingml/2006/table">
            <a:tbl>
              <a:tblPr/>
              <a:tblGrid>
                <a:gridCol w="9721800"/>
              </a:tblGrid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7650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5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si tratta di un collegamento tra il tracciato principale della ciclopista dell’Arno, l’abitato di Cavriglia e alcune zone di interesse naturalistico e sportivo, nonché il comune di Gaiole da cui passa l’Eroica (percorso cicloturistico inserito nella pianificazione della provincia di Siena) che però non è collegata direttament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: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l progetto prevede la ricucitura di tratti esistenti con tracciati in sede propria e promiscu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43972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ERIFICARE LA FUNZIONALITÀ DEL TRATTO CAVRIGLIA-CONFINE CON GAIOLE; nel comune di Gaiole è stato progettato un percorso che da continuità fino al capoluogo comunale, da garantire corrispondenza al confine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ACQUISIRE LA DOCUMENTAZIONE PROGETTUALE E GLI ACCORDI INERENTI LA REALIZZAZIONE DEL TRATTO INTERMEDIO NELL’AREA EX MINERARIA ENEL DI SANTA BARBA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40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1T09:09:36Z</dcterms:created>
  <dc:creator>Alessandro Romei</dc:creator>
  <dc:description/>
  <dc:language>en-US</dc:language>
  <cp:lastModifiedBy>MG18492</cp:lastModifiedBy>
  <cp:lastPrinted>2018-04-12T09:36:50Z</cp:lastPrinted>
  <dcterms:modified xsi:type="dcterms:W3CDTF">2019-05-13T20:11:13Z</dcterms:modified>
  <cp:revision>59</cp:revision>
  <dc:subject/>
  <dc:title>Manutenzione del sistema integrato  Ciclopista dell’Arno  - Sentiero della Bonifica</dc:title>
</cp:coreProperties>
</file>