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320"/>
            <a:ext cx="3267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C399B-99B9-44E7-9890-CCC3E45890C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2A8B8-96FB-405F-BBBC-0EB37E1C32F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8FBD6-551E-4C92-AE4B-5C17CF9F3E2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94FC6-5D27-4494-8791-98AE0E06179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17134-FEA6-4972-98C1-1B25F6CF15E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2773B-805F-4A1E-8907-A45819DDF20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74F2D-63C9-4A9D-B2B1-06A6B045D31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00DF-9A74-419F-8D3E-EECD58B70B8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B97DC-B14C-4017-8161-4D80880A37A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07D46-5C7D-41BB-B51A-19AC6E95C9E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0B77-2B26-4FF5-9EFD-45BAAE8A618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D21C-0531-4268-A21E-E9AD16ADA77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7E3E0-2B9E-4B84-9682-BFD60878B5B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254E7-2E93-45AD-B698-D9538121AC1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E5C3-A231-405D-9CEF-2EC99EE116D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68B0C-D1B7-48DE-9161-37C01D8864F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A1C10-F928-4B0D-94E9-546A2FF41E7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1A29B-9F28-43D1-A0A6-5AF775259F3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0A2A9-6618-47B7-AF9B-F864CC465DE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F44E9-4DC1-44C8-ADC1-69C81C43EC6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0D75F-E455-4F87-BEEC-BED57FC691D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8E210-6AA1-4561-A39B-CEBF4409D27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CC37E-45B3-489E-A98F-2545B097DAC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4419-2643-4E62-A74D-33B4BBE3D11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4CC9-5A43-4F29-819B-D0508887AE4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2D2B-88EE-4B1A-90FD-EBBEBB1FDF6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D6E9E-3092-4C2C-BA94-EC1DE220667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97116-E977-4C1B-891F-043A618B2F7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9BB6-FE3E-467D-A8E1-33CB1EEA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4929-FCD4-4DFA-9852-6974FF035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EF4C-8BCA-43E7-BD9D-FC70BEB64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DD60-CD2C-4642-8591-6C73562CF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542-293E-4929-AE33-3238C199B0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34AD-B811-45B9-B419-51D948A64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2662-7B11-40FF-82A6-8B9012293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E56B-3F60-42B9-8B9A-994B03C3B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6CD8-B4B5-41A9-88D5-BFEBADDD7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CE43-10F8-4CC2-B089-D3304D4D99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31EF-A6F4-40CD-829B-0E50F79E2D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E809-EF2C-4B7A-8A13-F39265E86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162F-2B9B-4864-98B4-6C27A8D1E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FFC6-9F54-4353-82CB-96865381E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09BB-D2B0-4F85-92E5-00C27B923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EDDC-E6A7-4AF3-8972-EE8CF96619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0853-BEE6-4B26-B302-873893FA3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F717-E931-4714-9F74-2529EEF15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B63E-4DFC-4738-B204-5D2DA0DBE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B40B-9AC3-4577-BC68-B2F843C87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0F1-3174-4112-96B7-8BAEB3020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189B-2082-4F3D-919A-EADFE247F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8D7D-5905-49E8-8402-21FE2716A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CE5B-971F-42FE-8EBF-F4570B859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52EC70-C08B-4614-AD3D-BCD2EF86D2F7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456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4680000"/>
            <a:ext cx="916632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65B6678-F260-4AFB-A146-06FD27D53A5D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4E69A-0044-4EBE-8816-BDBF51D3E29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8" name=""/>
          <p:cNvSpPr/>
          <p:nvPr/>
        </p:nvSpPr>
        <p:spPr>
          <a:xfrm>
            <a:off x="144360" y="1727280"/>
            <a:ext cx="9936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La Regione può autorizzare modifiche al cronoprogramma  comunicando tempestivamente tali modifiche al Ministero, fermo restando i limiti temporali previsti dalle Delibere CIPE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Il Ministero può revocare il finanziamentoper il mancato rispetto del cronoprogramma  dovuto a fatti o atti che impediscano l’utilizzo delle risorse disponibili entro 24 mesi dal termine previsto per la fine dell’esecuzione dei lavori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2E568-B3B0-46ED-BEDC-AAD22D1E92C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- modell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0720" y="1728720"/>
            <a:ext cx="856764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64E8D-C09D-4B78-B8C2-D8A3FD4A965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9131" r="0" b="0"/>
          <a:stretch/>
        </p:blipFill>
        <p:spPr>
          <a:xfrm>
            <a:off x="506520" y="2087640"/>
            <a:ext cx="89978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5C84-EE14-4367-80A0-CA821D5BB78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9680" y="1725480"/>
            <a:ext cx="95806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E994F-CECA-4F66-A54A-F24D6DFAE95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1200" y="1625760"/>
            <a:ext cx="9442440" cy="47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B4F61-1CE4-453B-8D61-5AD5619BAF3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9880" y="1511280"/>
            <a:ext cx="9485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8A0AC-7D21-4EE2-9FE5-3F79567F348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0720" y="1584360"/>
            <a:ext cx="85564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43FDC-7C4B-4851-9C56-1BD19289786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-11160" y="1517760"/>
            <a:ext cx="10078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D11DB-6704-46A0-A545-F7DDD3B1592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480" y="1787400"/>
            <a:ext cx="98028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FEE1-999B-4ECC-9F69-AA8610CE3C8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28720" y="1519200"/>
            <a:ext cx="65534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AD3A-F08E-4CCF-B004-251E5653C77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libere CIP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1° dicembre 2016, n. 54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iano Operativo Infrastrutture FSC 2014/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2 dicembre 2017, n. 98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rim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12,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second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26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ggiorna le regole di funzionamento del Fondo per lo sviluppo e la coesione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CB880-B922-43DD-AE00-7E2937FAA0B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8520" y="1757520"/>
            <a:ext cx="90327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3FBD-3E32-4BAF-82AB-A5BDD926C57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3175-7437-4D8F-8278-DBDBC8D065C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1F073-F596-4A96-9582-29CB12E8B5F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4CEA7-A9E4-4FCD-8634-435145F7C28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67CB6-DC78-42B4-ADEF-72185B1116E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AD802-A222-488C-BE66-0EE4EE8E6D7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80880" y="1555920"/>
          <a:ext cx="9057960" cy="5101560"/>
        </p:xfrm>
        <a:graphic>
          <a:graphicData uri="http://schemas.openxmlformats.org/drawingml/2006/table">
            <a:tbl>
              <a:tblPr/>
              <a:tblGrid>
                <a:gridCol w="3461400"/>
                <a:gridCol w="5596560"/>
              </a:tblGrid>
              <a:tr h="2460960">
                <a:tc rowSpan="2">
                  <a:txBody>
                    <a:bodyPr lIns="90000" rIns="90000" tIns="17175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</a:t>
                      </a: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64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11FF4-217A-4C50-BE39-F8521F9BC05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terventi finanziabil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87200" y="1627200"/>
          <a:ext cx="9573840" cy="5317920"/>
        </p:xfrm>
        <a:graphic>
          <a:graphicData uri="http://schemas.openxmlformats.org/drawingml/2006/table">
            <a:tbl>
              <a:tblPr/>
              <a:tblGrid>
                <a:gridCol w="3037320"/>
                <a:gridCol w="6536520"/>
              </a:tblGrid>
              <a:tr h="1276560">
                <a:tc rowSpan="4">
                  <a:txBody>
                    <a:bodyPr lIns="90000" rIns="90000" tIns="8816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06D01-A311-4306-838A-F7A4F63782A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creto DD RT n.2364 del 20-02-2019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520" y="1944720"/>
            <a:ext cx="9950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76F7C-CBB5-4214-B67D-1C902391442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80880" y="1555920"/>
          <a:ext cx="9062640" cy="5109480"/>
        </p:xfrm>
        <a:graphic>
          <a:graphicData uri="http://schemas.openxmlformats.org/drawingml/2006/table">
            <a:tbl>
              <a:tblPr/>
              <a:tblGrid>
                <a:gridCol w="4509000"/>
                <a:gridCol w="4553640"/>
              </a:tblGrid>
              <a:tr h="5109480"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087640" y="3168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"/>
          <p:cNvSpPr/>
          <p:nvPr/>
        </p:nvSpPr>
        <p:spPr>
          <a:xfrm>
            <a:off x="1728720" y="395928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"/>
          <p:cNvSpPr/>
          <p:nvPr/>
        </p:nvSpPr>
        <p:spPr>
          <a:xfrm>
            <a:off x="6622920" y="3276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"/>
          <p:cNvSpPr/>
          <p:nvPr/>
        </p:nvSpPr>
        <p:spPr>
          <a:xfrm>
            <a:off x="6264360" y="406872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1440000" y="2160720"/>
            <a:ext cx="23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MIT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40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"/>
          <p:cNvSpPr/>
          <p:nvPr/>
        </p:nvSpPr>
        <p:spPr>
          <a:xfrm>
            <a:off x="5688000" y="216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5472000"/>
            <a:ext cx="302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COMUNI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FBFEC-2692-48DC-B653-1F0A1FE555E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EROGAZIONE DA MIT A RT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87280" y="1555920"/>
          <a:ext cx="9156240" cy="5042880"/>
        </p:xfrm>
        <a:graphic>
          <a:graphicData uri="http://schemas.openxmlformats.org/drawingml/2006/table">
            <a:tbl>
              <a:tblPr/>
              <a:tblGrid>
                <a:gridCol w="2729160"/>
                <a:gridCol w="6427080"/>
              </a:tblGrid>
              <a:tr h="14954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TICIPAZIONE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OPO REGISTRAZIONE DELLA CONVENZIONE RT/MIT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 CARICAMENTO DI CIASCUN INTERVENTO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LLA BANCA DATI UNITARIA MEF-RGS-IG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6140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I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ME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IMBORSO DELLE SPES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FFETTIVAMENTE SOSTENUT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dati sistema unitario monitoraggio, quote non inferiori al 5%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860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L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O FINALE A SEGUITO DI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ATTESTAZIONE DI CHIUSURA DELL’INTERV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F736D-9599-42AE-A406-B8290E487B9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tributo statal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2782" t="14506" r="4166" b="25490"/>
          <a:stretch/>
        </p:blipFill>
        <p:spPr>
          <a:xfrm>
            <a:off x="576360" y="1584360"/>
            <a:ext cx="88549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20DD9-04D9-4776-8543-0BB5BB38BFE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E RT- ENTI ATTUATOR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9481" t="47647" r="15088" b="25678"/>
          <a:stretch/>
        </p:blipFill>
        <p:spPr>
          <a:xfrm>
            <a:off x="647640" y="2303640"/>
            <a:ext cx="9166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0928B-938D-4F77-A21F-2FF914144A7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OGV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31/12/2021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assumere le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 obbligazioni giuridicamente vincolanti,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inerenti a ciascuno degli interventi, pena la 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evoca delle risorse assegnate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per gli stessi </a:t>
            </a:r>
            <a:r>
              <a:rPr b="0" i="1" lang="it-IT" sz="2800" spc="-1" strike="noStrike">
                <a:solidFill>
                  <a:srgbClr val="1c1c1c"/>
                </a:solidFill>
                <a:latin typeface="Source Sans Pro Semibold"/>
              </a:rPr>
              <a:t>(sufficiente che sia intervenuta la proposta di aggiudicazione)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salvo aggiornamenti o proroghe del termine stabiliti da Delibere CIPE e da fonti legislative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CFDA4-B7FB-4C5F-96E6-3E8B412454B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ispetto del cronoprogramma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 fermi restando gli obblighi imposti dalle Delibere CIPE (</a:t>
            </a:r>
            <a:r>
              <a:rPr b="0" i="1" lang="it-IT" sz="3200" spc="-1" strike="noStrike">
                <a:solidFill>
                  <a:srgbClr val="1c1c1c"/>
                </a:solidFill>
                <a:latin typeface="Source Sans Pro Semibold"/>
              </a:rPr>
              <a:t>comunque entro 2025  certificato di ultimazione dei lavori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/>
  <cp:lastPrinted>2018-04-12T09:36:50Z</cp:lastPrinted>
  <dcterms:modified xsi:type="dcterms:W3CDTF">2019-05-14T10:25:47Z</dcterms:modified>
  <cp:revision>20</cp:revision>
  <dc:subject/>
  <dc:title>Manutenzione del sistema integrato  Ciclopista dell’Arno  - Sentiero della Bonifica</dc:title>
</cp:coreProperties>
</file>