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052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9" name="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3"/>
          </p:nvPr>
        </p:nvSpPr>
        <p:spPr>
          <a:xfrm>
            <a:off x="4277880" y="10156320"/>
            <a:ext cx="3267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8E94D-C042-4128-BD8E-3F69A15D474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5D6CE-6AB2-4656-B846-5A336050E7C3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2FDD0-2B29-431F-A771-2D596572EF2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4219E-00FD-4C80-99A9-50ACA53102F0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C80D4-7487-4033-B398-0CDD2A4106F6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DE5BD-1646-4672-878B-C3C802C1B9E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FC392-F3F0-414C-AA83-00609E216F42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5533A-20C5-4FB0-9CB3-818A57180C8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E47D3-DA49-476D-9C9E-FF2A3BB130E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C5917-16BF-47D0-996F-BFF2DCAF67C1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B5456-CD75-4E5C-A3C9-5728CFDC6CA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8BFFD-DA26-4520-9F57-5CA8108F3A7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FD846-5D92-43C1-ABB8-D89B5DBB15A4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5F3A4-9A66-4278-BD93-B56251E9B1C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98388-9275-4840-90F8-B3ABF9BA5BE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BC97A-DFFD-46DF-9EA5-A5BBA82E00B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46CF3-5654-48FC-9CE5-3B057E7C0F14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A2C5D-5731-4A43-9151-00DD3F561C0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28E35-7A0B-4774-8DAC-7E76B104AC84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96D89-0C0E-4DEE-8CA8-F255A2E7CF3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34F38-AAA7-4C31-9004-271A49C279E3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20BF4-6419-4C92-90E9-CED24321C0B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BA171-8744-4AFE-97D3-A0B3EE1E24B6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2598E-F31A-44AE-8A72-69A7318D1852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F4F6B-8E79-4DBA-86D4-BA0F27D72183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160C1-B4F7-4C48-B0CB-C98B54A3F1E6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E2AFD-E2C8-4AF5-A4B7-BEDCE055933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D51A7-DFAB-4B4C-A56A-758F1E935B95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7963-F095-4309-A79D-73FE1E29B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360" y="441648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6F13-D95B-453F-AF49-D29267703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728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F81E-4E87-4D81-9293-4AF8CE6C7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960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884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36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960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884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90C2-4041-42FC-A765-43A26A6E5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C4D3-CBD4-4CB1-A122-F3F64BB06A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0A39-8F3B-44C6-B572-2B8950CDF1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C545-C60F-491A-A3C3-EA8A283A8B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090CD-390F-432B-BA60-0A4EF9A686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D58E8-42A1-4962-B7D8-81B1BA8F9F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360" y="360000"/>
            <a:ext cx="9345600" cy="41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6DD5-72FA-4C8A-A956-25A1C00ABF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2A9F6-A487-40D9-AB82-4D8F2FECD5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0E32-861A-40B2-9259-64D0E6E7A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728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0390-E18E-44AA-9928-93021522D8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9008-1B90-4F6E-8ACA-85CE4136BE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360" y="441648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3222-236E-4609-B01D-CDFF2614BC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728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CFEEF-9CCD-4B76-9895-756FDF0C24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5960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5884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36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5960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5884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03C2-03F2-47E4-801A-35B2B53DAC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351D-DF81-4C09-AA1B-BF6B469E8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DB91-2624-4929-95FF-406D5A0C8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7C85-8874-48D2-995D-BDB6DE852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360" y="360000"/>
            <a:ext cx="9345600" cy="41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1D30-32DE-472F-9AB6-01EFFC8E3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D002-91CE-4179-AE6B-293456F86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728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2B58-50F6-48E4-BAFE-3A2AA8C0E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0D3A-9A6F-4B4C-8D9F-0C041334B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" name="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" name="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"/>
          <p:cNvSpPr/>
          <p:nvPr/>
        </p:nvSpPr>
        <p:spPr>
          <a:xfrm>
            <a:off x="7559640" y="6840360"/>
            <a:ext cx="233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" name=""/>
          <p:cNvSpPr/>
          <p:nvPr/>
        </p:nvSpPr>
        <p:spPr>
          <a:xfrm>
            <a:off x="1079640" y="6840360"/>
            <a:ext cx="32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179280" y="6840360"/>
            <a:ext cx="525600" cy="5256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53A6DB9-FD42-4D9A-BA7C-242E6016086D}" type="slidenum">
              <a:rPr b="1" lang="it-IT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3330720"/>
            <a:ext cx="9345600" cy="8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640" y="4680000"/>
            <a:ext cx="9166320" cy="25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"/>
          <p:cNvSpPr/>
          <p:nvPr/>
        </p:nvSpPr>
        <p:spPr>
          <a:xfrm>
            <a:off x="7559640" y="6840360"/>
            <a:ext cx="23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9" name=""/>
          <p:cNvSpPr/>
          <p:nvPr/>
        </p:nvSpPr>
        <p:spPr>
          <a:xfrm>
            <a:off x="1079640" y="6840360"/>
            <a:ext cx="32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179280" y="6840360"/>
            <a:ext cx="52560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BFEE50A-4C47-424C-B57C-938FB194C7BF}" type="slidenum">
              <a:rPr b="1" lang="it-IT" sz="2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iano Operativo FSC 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Infrastrutture 2014-2020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75160" y="243000"/>
            <a:ext cx="525600" cy="88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68004-DC16-46D5-9C41-25EB2C1303F2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Tempi di attuazione Cronoprogramm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8" name=""/>
          <p:cNvSpPr/>
          <p:nvPr/>
        </p:nvSpPr>
        <p:spPr>
          <a:xfrm>
            <a:off x="144360" y="1727280"/>
            <a:ext cx="9936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La Regione può autorizzare modifiche al cronoprogramma  comunicando tempestivamente tali modifiche al Ministero, fermo restando i limiti temporali previsti dalle Delibere CIPE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Il Ministero può revocare il finanziamentoper il mancato rispetto del cronoprogramma  dovuto a fatti o atti che impediscano l’utilizzo delle risorse disponibili entro 24 mesi dal termine previsto per la fine dell’esecuzione dei lavori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339BA-ABD4-4839-B601-441E860829C6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ronoprogramma - modell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20720" y="1728720"/>
            <a:ext cx="8567640" cy="48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3BB43-A4ED-446A-80E7-5C5243646A92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ronoprogramma Cavrigli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rcRect l="0" t="9131" r="0" b="0"/>
          <a:stretch/>
        </p:blipFill>
        <p:spPr>
          <a:xfrm>
            <a:off x="506520" y="2087640"/>
            <a:ext cx="89978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CF663-C9F8-4E1F-A152-D7DD9761A03B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Figline e Incisa Valdarn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39680" y="1725480"/>
            <a:ext cx="958068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2098B-4B2A-4A6E-AEC0-4037AF48829C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ontassiev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41200" y="1625760"/>
            <a:ext cx="9442440" cy="47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E55D4-9040-4559-9AD8-EA1673C338AD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rovincia di Arezz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99880" y="1511280"/>
            <a:ext cx="94856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12778-23C3-4AE2-90E2-A965D2A2CD26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Sansepolcr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20720" y="1584360"/>
            <a:ext cx="8556480" cy="51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7A803-8961-43BA-88F5-28E23D66AB16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Sinalung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-11160" y="1517760"/>
            <a:ext cx="10078920" cy="50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25D18-1BF7-4A64-A550-2B3973A3904B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Montignos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0480" y="1787400"/>
            <a:ext cx="9802800" cy="48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2FFD4-4060-460D-A57C-5CD31B297D1D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3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San Miniat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28720" y="1519200"/>
            <a:ext cx="65534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F2FEC-6980-462E-9137-93AA7B8A7D10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Delibere CIP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   • 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1° dicembre 2016, n. 54, </a:t>
            </a:r>
            <a:br>
              <a:rPr sz="2600"/>
            </a:b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approva il Piano Operativo Infrastrutture FSC 2014/2020;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   • 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22 dicembre 2017, n. 98, </a:t>
            </a:r>
            <a:br>
              <a:rPr sz="2600"/>
            </a:b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approva il primo Addendum al P. O. Infr. FSC 2014-2020;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   • 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28 febbraio 2018, n. 12,</a:t>
            </a:r>
            <a:br>
              <a:rPr sz="2600"/>
            </a:b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approva il secondo Addendum al P. O. Infr. FSC 2014-2020;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   •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28 febbraio 2018, n. 26, </a:t>
            </a:r>
            <a:br>
              <a:rPr sz="2600"/>
            </a:b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aggiorna le regole di funzionamento del Fondo per lo sviluppo e la coesione;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9350A-F073-4F68-9A96-0EFC7DAF3425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8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ronoprogramma Calcinai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8520" y="1757520"/>
            <a:ext cx="903276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3706C-DDF2-4390-905C-AEAB19202FE3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4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DFB8C-7D64-43A5-8E04-7C84C5112870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8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9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EF78F-FF68-42E3-B03A-AF90CBC098B7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3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4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9942C-6D70-4938-AB2C-2B8BB8DDDC12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8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9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6E35A-2A79-46AA-8DEC-C31EC67BBDBC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3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4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C5A71-B9E3-4568-8D5B-4F7C765C0B5E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8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80880" y="1555920"/>
          <a:ext cx="9057960" cy="5101560"/>
        </p:xfrm>
        <a:graphic>
          <a:graphicData uri="http://schemas.openxmlformats.org/drawingml/2006/table">
            <a:tbl>
              <a:tblPr/>
              <a:tblGrid>
                <a:gridCol w="3461400"/>
                <a:gridCol w="5596560"/>
              </a:tblGrid>
              <a:tr h="2460960">
                <a:tc rowSpan="2">
                  <a:txBody>
                    <a:bodyPr lIns="90000" rIns="90000" tIns="171756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4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…</a:t>
                      </a:r>
                      <a:r>
                        <a:rPr b="1" lang="it-IT" sz="4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.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02096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……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64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2096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……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67BBD-0C60-4EAF-8820-6D60F7A4B91F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4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Interventi finanziabili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5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187200" y="1627200"/>
          <a:ext cx="9573840" cy="5317920"/>
        </p:xfrm>
        <a:graphic>
          <a:graphicData uri="http://schemas.openxmlformats.org/drawingml/2006/table">
            <a:tbl>
              <a:tblPr/>
              <a:tblGrid>
                <a:gridCol w="3037320"/>
                <a:gridCol w="6536520"/>
              </a:tblGrid>
              <a:tr h="1276560">
                <a:tc rowSpan="4">
                  <a:txBody>
                    <a:bodyPr lIns="90000" rIns="90000" tIns="88164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04440" bIns="468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06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4440" bIns="468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8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4440" bIns="468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4440" bIns="468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A9057-B719-4BE1-AD2E-8FF2F32AAF58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Decreto DD RT n.2364 del 20-02-2019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4520" y="1944720"/>
            <a:ext cx="99504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BEC81-0D7F-4647-9E2E-26094F17F18C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5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NVENZIONI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380880" y="1555920"/>
          <a:ext cx="9062640" cy="5109480"/>
        </p:xfrm>
        <a:graphic>
          <a:graphicData uri="http://schemas.openxmlformats.org/drawingml/2006/table">
            <a:tbl>
              <a:tblPr/>
              <a:tblGrid>
                <a:gridCol w="4509000"/>
                <a:gridCol w="4553640"/>
              </a:tblGrid>
              <a:tr h="5109480">
                <a:tc>
                  <a:txBody>
                    <a:bodyPr lIns="90000" rIns="90000" tIns="17175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7175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087640" y="3168720"/>
            <a:ext cx="1081080" cy="2160360"/>
          </a:xfrm>
          <a:prstGeom prst="upDownArrow">
            <a:avLst>
              <a:gd name="adj1" fmla="val 50000"/>
              <a:gd name="adj2" fmla="val 3978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0" name=""/>
          <p:cNvSpPr/>
          <p:nvPr/>
        </p:nvSpPr>
        <p:spPr>
          <a:xfrm>
            <a:off x="1728720" y="3959280"/>
            <a:ext cx="1728720" cy="64764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Source Sans Pro"/>
              </a:rPr>
              <a:t>convenzione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1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2" name=""/>
          <p:cNvSpPr/>
          <p:nvPr/>
        </p:nvSpPr>
        <p:spPr>
          <a:xfrm>
            <a:off x="6622920" y="3276720"/>
            <a:ext cx="1081080" cy="2160360"/>
          </a:xfrm>
          <a:prstGeom prst="upDownArrow">
            <a:avLst>
              <a:gd name="adj1" fmla="val 50000"/>
              <a:gd name="adj2" fmla="val 3978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3" name=""/>
          <p:cNvSpPr/>
          <p:nvPr/>
        </p:nvSpPr>
        <p:spPr>
          <a:xfrm>
            <a:off x="6264360" y="4068720"/>
            <a:ext cx="1728720" cy="64764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Source Sans Pro"/>
              </a:rPr>
              <a:t>convenzione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4" name=""/>
          <p:cNvSpPr/>
          <p:nvPr/>
        </p:nvSpPr>
        <p:spPr>
          <a:xfrm>
            <a:off x="1440000" y="2160720"/>
            <a:ext cx="2376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ff3333"/>
                </a:solidFill>
                <a:latin typeface="Source Sans Pro"/>
              </a:rPr>
              <a:t>MIT</a:t>
            </a:r>
            <a:endParaRPr b="0" lang="en-US" sz="5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5400720"/>
            <a:ext cx="302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ff3333"/>
                </a:solidFill>
                <a:latin typeface="Source Sans Pro"/>
              </a:rPr>
              <a:t>REGIONE</a:t>
            </a:r>
            <a:endParaRPr b="0" lang="en-US" sz="5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6" name=""/>
          <p:cNvSpPr/>
          <p:nvPr/>
        </p:nvSpPr>
        <p:spPr>
          <a:xfrm>
            <a:off x="5688000" y="2160720"/>
            <a:ext cx="302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ff3333"/>
                </a:solidFill>
                <a:latin typeface="Source Sans Pro"/>
              </a:rPr>
              <a:t>REGIONE</a:t>
            </a:r>
            <a:endParaRPr b="0" lang="en-US" sz="5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7" name=""/>
          <p:cNvSpPr/>
          <p:nvPr/>
        </p:nvSpPr>
        <p:spPr>
          <a:xfrm>
            <a:off x="5616720" y="5472000"/>
            <a:ext cx="3024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ff3333"/>
                </a:solidFill>
                <a:latin typeface="Source Sans Pro"/>
              </a:rPr>
              <a:t>COMUNI</a:t>
            </a:r>
            <a:endParaRPr b="0" lang="en-US" sz="54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12B6F-51C0-4FEC-82F0-727F1D1120A6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EROGAZIONE DA MIT A RT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287280" y="1555920"/>
          <a:ext cx="9156240" cy="5042880"/>
        </p:xfrm>
        <a:graphic>
          <a:graphicData uri="http://schemas.openxmlformats.org/drawingml/2006/table">
            <a:tbl>
              <a:tblPr/>
              <a:tblGrid>
                <a:gridCol w="2729160"/>
                <a:gridCol w="6427080"/>
              </a:tblGrid>
              <a:tr h="1495440">
                <a:tc>
                  <a:txBody>
                    <a:bodyPr lIns="90000" rIns="90000" tIns="1504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TICIPAZIONE</a:t>
                      </a:r>
                      <a:br>
                        <a:rPr sz="2400"/>
                      </a:b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algn="ctr">
                        <a:lnSpc>
                          <a:spcPct val="119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2456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OPO REGISTRAZIONE DELLA CONVENZIONE RT/MIT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E CARICAMENTO DI CIASCUN INTERVENTO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LLA BANCA DATI UNITARIA MEF-RGS-IGR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61400">
                <a:tc>
                  <a:txBody>
                    <a:bodyPr lIns="90000" rIns="90000" tIns="1504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AGAMENTI</a:t>
                      </a:r>
                      <a:br>
                        <a:rPr sz="2400"/>
                      </a:b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MED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algn="ctr">
                        <a:lnSpc>
                          <a:spcPct val="119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algn="ctr">
                        <a:lnSpc>
                          <a:spcPct val="119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2456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IMBORSO DELLE SPESE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EFFETTIVAMENTE SOSTENUTE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(dati sistema unitario monitoraggio, quote non inferiori al 5% 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86040">
                <a:tc>
                  <a:txBody>
                    <a:bodyPr lIns="90000" rIns="90000" tIns="1504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L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algn="ctr">
                        <a:lnSpc>
                          <a:spcPct val="119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2456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AGAMENTO FINALE A SEGUITO DI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ATTESTAZIONE DI CHIUSURA DELL’INTERV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F022F-BC3F-4F9F-BC81-99FD6131BEC8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5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ntributo statal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6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12782" t="14506" r="4166" b="25490"/>
          <a:stretch/>
        </p:blipFill>
        <p:spPr>
          <a:xfrm>
            <a:off x="576360" y="1584360"/>
            <a:ext cx="885492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E495F-7964-4DEA-B6EA-535B4755324E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1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NVENZIONE RT- ENTI ATTUATORI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9481" t="47647" r="15088" b="25678"/>
          <a:stretch/>
        </p:blipFill>
        <p:spPr>
          <a:xfrm>
            <a:off x="647640" y="2303640"/>
            <a:ext cx="91663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13387-2113-48E5-88EF-CEE65FFB994A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Tempi di attuazione OGV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8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1c1c1c"/>
                </a:solidFill>
                <a:latin typeface="Source Sans Pro Semibold"/>
              </a:rPr>
              <a:t>31/12/2021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 assumere le</a:t>
            </a:r>
            <a:r>
              <a:rPr b="1" lang="it-IT" sz="3200" spc="-1" strike="noStrike">
                <a:solidFill>
                  <a:srgbClr val="1c1c1c"/>
                </a:solidFill>
                <a:latin typeface="Source Sans Pro Semibold"/>
              </a:rPr>
              <a:t> obbligazioni giuridicamente vincolanti,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 inerenti a ciascuno degli interventi, pena la </a:t>
            </a:r>
            <a:r>
              <a:rPr b="1" lang="it-IT" sz="3200" spc="-1" strike="noStrike">
                <a:solidFill>
                  <a:srgbClr val="1c1c1c"/>
                </a:solidFill>
                <a:latin typeface="Source Sans Pro Semibold"/>
              </a:rPr>
              <a:t>revoca delle risorse assegnate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 per gli stessi </a:t>
            </a:r>
            <a:r>
              <a:rPr b="0" i="1" lang="it-IT" sz="2800" spc="-1" strike="noStrike">
                <a:solidFill>
                  <a:srgbClr val="1c1c1c"/>
                </a:solidFill>
                <a:latin typeface="Source Sans Pro Semibold"/>
              </a:rPr>
              <a:t>(sufficiente che sia intervenuta la proposta di aggiudicazione)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,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salvo aggiornamenti o proroghe del termine stabiliti da Delibere CIPE e da fonti legislative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10277-AD05-40FC-8E10-D5427A05B124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Tempi di attuazione Cronoprogramm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3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1c1c1c"/>
                </a:solidFill>
                <a:latin typeface="Source Sans Pro Semibold"/>
              </a:rPr>
              <a:t>Rispetto del cronoprogramma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, fermi restando gli obblighi imposti dalle Delibere CIPE (</a:t>
            </a:r>
            <a:r>
              <a:rPr b="0" i="1" lang="it-IT" sz="3200" spc="-1" strike="noStrike">
                <a:solidFill>
                  <a:srgbClr val="1c1c1c"/>
                </a:solidFill>
                <a:latin typeface="Source Sans Pro Semibold"/>
              </a:rPr>
              <a:t>comunque entro 2025  certificato di ultimazione dei lavori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1T09:09:36Z</dcterms:created>
  <dc:creator>Alessandro Romei</dc:creator>
  <dc:description/>
  <dc:language>en-US</dc:language>
  <cp:lastModifiedBy/>
  <cp:lastPrinted>2018-04-12T09:36:50Z</cp:lastPrinted>
  <dcterms:modified xsi:type="dcterms:W3CDTF">2019-05-14T10:25:47Z</dcterms:modified>
  <cp:revision>20</cp:revision>
  <dc:subject/>
  <dc:title>Manutenzione del sistema integrato  Ciclopista dell’Arno  - Sentiero della Bonifica</dc:title>
</cp:coreProperties>
</file>