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052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9" name="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3"/>
          </p:nvPr>
        </p:nvSpPr>
        <p:spPr>
          <a:xfrm>
            <a:off x="4277880" y="10156320"/>
            <a:ext cx="3267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45F75-11AA-40CB-89B0-6F068D787E35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1F55F-7544-4A59-A991-D7DFACFAD437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CEF7C-D816-4CBD-9186-8387EA4C5CAF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DF930-764F-4BC8-AB83-41B5F8737C10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345BF-18C5-4613-A8DA-8410B5E33567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E4894-6B26-4EE5-B8AD-9203611EE508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D2AAD-0FC7-4CEB-8689-7213F0FBBD90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47ADB-124D-4997-984F-1C68394FC2F7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B7969-33BE-4382-B25D-E9918ECA1E1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DCB48-EEAD-405B-8EFA-2FC6494665D6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7C9F9-BFE5-4C1C-B2C7-337CC4B925DC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6B20A-CAFB-4FFF-A1D2-034530012EB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CF4D9-4DA6-48B8-9E39-8B37BAFBD38E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55C07-CB84-486E-8654-6BF50B500FD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14F61-206F-4574-9256-B8F84E677838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E8B11-F4BF-439C-9364-46E7095071B0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13365-9009-4C59-B39D-DE7584C01533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AA882-E9F0-431A-8907-FE9E337252FF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B2D5C-616C-4CB0-A8E2-10CB0F8A5D5E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D5D1B-9316-4DF1-9406-FC1B1F14B67E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47DB6-6EDD-4DFE-84F5-0CCF981B189C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74E20-4917-4F4B-A042-30D14395466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C9FFB-9C61-4ADA-8019-A741BB2DA3D8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50CFC-810B-4429-AB09-FC90B2CAC778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B6691-7843-42CC-A0E2-1C1961082817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AF557-5A7F-4551-A2D5-554875072DF1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4461F-0AD7-470C-B1CE-652926AE0237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C309D-D5C3-494F-AACD-8CB2FDC862E6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FBBC-DE41-4E95-9888-4CDB5A8E1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360" y="441648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B86D-EE08-4288-B6FC-B5CB40636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728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14D8-6F1B-4709-BC6D-B614438D5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960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884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36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960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884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6000-B39B-44A8-8EE3-E6E0D76EB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738E7-1BAF-4614-92CB-9762015DC3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D637D-69F3-40B0-B38A-792A3199A2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9424-ACB2-4B9D-ADF3-B8FC85D95D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0FD5-37A0-49B2-AF40-E4A7BCA676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56402-3232-4E60-814D-F68CDF9ABA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60360" y="360000"/>
            <a:ext cx="9345600" cy="41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CF4E-406A-4EA3-AD5B-D879C7C24F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983D7-1EAB-46FF-B6D9-07C092ECBE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4372-A079-41FD-9D6D-18C1C2B48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728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BC1A0-0D88-4929-9DD0-964779F934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3D4F8-DB19-43C2-BDB2-3272B6B6E9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360" y="441648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227B8-EBB6-44BF-8F59-676A6E5152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728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8CED-4726-49BC-AC02-BFD72A17E6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5960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58840" y="197964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036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5960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58840" y="4416480"/>
            <a:ext cx="295128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829BB-9288-4AE3-975D-933B33CC1D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1398-839F-4354-BAEE-444F0E3F6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BA584-D521-4834-A16D-5717078B8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AC0B-9FC7-44C3-8BD0-8BF26AF4E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360" y="360000"/>
            <a:ext cx="9345600" cy="41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DD88-B6B7-4574-80CF-73C81C9BB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BD70-3E53-4FBC-B26A-E83447630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7280" y="441648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E690-8721-4B8D-A978-6DD6279F0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79640"/>
            <a:ext cx="447300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360" y="4416480"/>
            <a:ext cx="9166320" cy="22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908E-64E4-4D36-8774-7AA6FC226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" name="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" name="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456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360" y="1979640"/>
            <a:ext cx="916632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"/>
          <p:cNvSpPr/>
          <p:nvPr/>
        </p:nvSpPr>
        <p:spPr>
          <a:xfrm>
            <a:off x="7559640" y="6840360"/>
            <a:ext cx="233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" name=""/>
          <p:cNvSpPr/>
          <p:nvPr/>
        </p:nvSpPr>
        <p:spPr>
          <a:xfrm>
            <a:off x="1079640" y="6840360"/>
            <a:ext cx="32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179280" y="6840360"/>
            <a:ext cx="525600" cy="5256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C0EB6B7-C330-4123-827E-E59642240C0A}" type="slidenum">
              <a:rPr b="1" lang="it-IT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360" y="3330720"/>
            <a:ext cx="9345600" cy="8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640" y="4680000"/>
            <a:ext cx="9166320" cy="25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8" name=""/>
          <p:cNvSpPr/>
          <p:nvPr/>
        </p:nvSpPr>
        <p:spPr>
          <a:xfrm>
            <a:off x="7559640" y="6840360"/>
            <a:ext cx="23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9" name=""/>
          <p:cNvSpPr/>
          <p:nvPr/>
        </p:nvSpPr>
        <p:spPr>
          <a:xfrm>
            <a:off x="1079640" y="6840360"/>
            <a:ext cx="32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179280" y="6840360"/>
            <a:ext cx="52560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CF8E3A6-515B-44AE-BDF0-7B5190DECE0A}" type="slidenum">
              <a:rPr b="1" lang="it-IT" sz="2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0360" y="333072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iano Operativo FSC 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Infrastrutture 2014-2020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75160" y="243000"/>
            <a:ext cx="525600" cy="88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F00C8-7385-4B53-9339-82A31F3E48D9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Tempi di attuazione Cronoprogramm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8" name=""/>
          <p:cNvSpPr/>
          <p:nvPr/>
        </p:nvSpPr>
        <p:spPr>
          <a:xfrm>
            <a:off x="144360" y="1727280"/>
            <a:ext cx="9936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La Regione può autorizzare modifiche al cronoprogramma  comunicando tempestivamente tali modifiche al Ministero, fermo restando i limiti temporali previsti dalle Delibere CIPE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Il Ministero può revocare il finanziamentoper il mancato rispetto del cronoprogramma  dovuto a fatti o atti che impediscano l’utilizzo delle risorse disponibili entro 24 mesi dal termine previsto per la fine dell’esecuzione dei lavori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AFA90-F4EF-4E95-9686-C94AD5610334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ronoprogramma - modell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20720" y="1728720"/>
            <a:ext cx="8567640" cy="48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AA3DB-84B9-405D-A172-F41ADB0EFF49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ronoprogramma Cavrigli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rcRect l="0" t="9131" r="0" b="0"/>
          <a:stretch/>
        </p:blipFill>
        <p:spPr>
          <a:xfrm>
            <a:off x="506520" y="2087640"/>
            <a:ext cx="89978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CFF8C-A399-465D-8E3D-ADADC0BA2A18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Figline e Incisa Valdarn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39680" y="1725480"/>
            <a:ext cx="958068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C7471-949C-47CF-8BB0-EEF1E1363B8A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ontassiev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41200" y="1625760"/>
            <a:ext cx="9442440" cy="47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A7638-0945-4E3A-95D1-DDCD11C20DE3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rovincia di Arezz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99880" y="1511280"/>
            <a:ext cx="94856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01EB2-4345-4BC9-A062-916D3AFAA3DF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Sansepolcr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20720" y="1584360"/>
            <a:ext cx="8556480" cy="51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1C436-B2E5-4229-A5E1-203E68825AB5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Sinalung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-11160" y="1517760"/>
            <a:ext cx="10078920" cy="50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49FE5-0061-4EBD-B2A2-BB381C262F12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Montignos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0480" y="1787400"/>
            <a:ext cx="9802800" cy="48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D213C-75C4-40FC-BF24-D0F9301A9171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3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San Miniat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28720" y="1519200"/>
            <a:ext cx="65534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E54F7-7F43-4205-9AE0-9B308D7DBDF6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Delibere CIP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   • 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1° dicembre 2016, n. 54, </a:t>
            </a:r>
            <a:br>
              <a:rPr sz="2600"/>
            </a:b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approva il Piano Operativo Infrastrutture FSC 2014/2020;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   • 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22 dicembre 2017, n. 98, </a:t>
            </a:r>
            <a:br>
              <a:rPr sz="2600"/>
            </a:b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approva il primo Addendum al P. O. Infr. FSC 2014-2020;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   • 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28 febbraio 2018, n. 12,</a:t>
            </a:r>
            <a:br>
              <a:rPr sz="2600"/>
            </a:b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approva il secondo Addendum al P. O. Infr. FSC 2014-2020;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   •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28 febbraio 2018, n. 26, </a:t>
            </a:r>
            <a:br>
              <a:rPr sz="2600"/>
            </a:b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aggiorna le regole di funzionamento del Fondo per lo sviluppo e la coesione;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457EF-63DA-4FF1-9582-700F55255CE5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8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ronoprogramma Calcinai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8520" y="1757520"/>
            <a:ext cx="903276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B9992-A44B-4790-BFBA-72CF2DBD0495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4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BF166-2EB3-42E2-A009-353A07F689E5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8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9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61F95-F9F6-469E-8BE8-27E1BD64E6CB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3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4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1FFAD-4C65-48D4-B072-E573D2AB33ED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8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9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0EDCC-2DFF-4E11-AAF2-543C6BBAC05B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3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4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……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A7EEC-D833-448F-97BD-F6CB665C8639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8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80880" y="1555920"/>
          <a:ext cx="9057960" cy="5101560"/>
        </p:xfrm>
        <a:graphic>
          <a:graphicData uri="http://schemas.openxmlformats.org/drawingml/2006/table">
            <a:tbl>
              <a:tblPr/>
              <a:tblGrid>
                <a:gridCol w="3461400"/>
                <a:gridCol w="5596560"/>
              </a:tblGrid>
              <a:tr h="2460960">
                <a:tc rowSpan="2">
                  <a:txBody>
                    <a:bodyPr lIns="90000" rIns="90000" tIns="171756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4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…</a:t>
                      </a:r>
                      <a:r>
                        <a:rPr b="1" lang="it-IT" sz="4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.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02096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……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64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2096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……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6600B-4C43-4B00-AF4B-0C80A7160FFC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4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Interventi finanziabili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5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187200" y="1627200"/>
          <a:ext cx="9573840" cy="5317920"/>
        </p:xfrm>
        <a:graphic>
          <a:graphicData uri="http://schemas.openxmlformats.org/drawingml/2006/table">
            <a:tbl>
              <a:tblPr/>
              <a:tblGrid>
                <a:gridCol w="3037320"/>
                <a:gridCol w="6536520"/>
              </a:tblGrid>
              <a:tr h="1276560">
                <a:tc rowSpan="4">
                  <a:txBody>
                    <a:bodyPr lIns="90000" rIns="90000" tIns="88164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04440" bIns="46800" anchor="t">
                      <a:noAutofit/>
                    </a:bodyPr>
                    <a:p>
                      <a:pPr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06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4440" bIns="46800" anchor="t">
                      <a:noAutofit/>
                    </a:bodyPr>
                    <a:p>
                      <a:pPr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8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4440" bIns="46800" anchor="t">
                      <a:noAutofit/>
                    </a:bodyPr>
                    <a:p>
                      <a:pPr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4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4440" bIns="46800" anchor="t">
                      <a:noAutofit/>
                    </a:bodyPr>
                    <a:p>
                      <a:pPr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D6D7F-3DAF-4FA2-BF91-EDDD64B722FE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Decreto DD RT n.2364 del 20-02-2019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4520" y="1944720"/>
            <a:ext cx="99504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908FC-4A0C-4B59-9152-DE3E42964CCF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5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NVENZIONI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380880" y="1555920"/>
          <a:ext cx="9062640" cy="5109480"/>
        </p:xfrm>
        <a:graphic>
          <a:graphicData uri="http://schemas.openxmlformats.org/drawingml/2006/table">
            <a:tbl>
              <a:tblPr/>
              <a:tblGrid>
                <a:gridCol w="4509000"/>
                <a:gridCol w="4553640"/>
              </a:tblGrid>
              <a:tr h="5109480">
                <a:tc>
                  <a:txBody>
                    <a:bodyPr lIns="90000" rIns="90000" tIns="17175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7175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087640" y="3168720"/>
            <a:ext cx="1081080" cy="2160360"/>
          </a:xfrm>
          <a:prstGeom prst="upDownArrow">
            <a:avLst>
              <a:gd name="adj1" fmla="val 50000"/>
              <a:gd name="adj2" fmla="val 3978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0" name=""/>
          <p:cNvSpPr/>
          <p:nvPr/>
        </p:nvSpPr>
        <p:spPr>
          <a:xfrm>
            <a:off x="1728720" y="3959280"/>
            <a:ext cx="1728720" cy="64764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Source Sans Pro"/>
              </a:rPr>
              <a:t>convenzione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1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2" name=""/>
          <p:cNvSpPr/>
          <p:nvPr/>
        </p:nvSpPr>
        <p:spPr>
          <a:xfrm>
            <a:off x="6622920" y="3276720"/>
            <a:ext cx="1081080" cy="2160360"/>
          </a:xfrm>
          <a:prstGeom prst="upDownArrow">
            <a:avLst>
              <a:gd name="adj1" fmla="val 50000"/>
              <a:gd name="adj2" fmla="val 3978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3" name=""/>
          <p:cNvSpPr/>
          <p:nvPr/>
        </p:nvSpPr>
        <p:spPr>
          <a:xfrm>
            <a:off x="6264360" y="4068720"/>
            <a:ext cx="1728720" cy="64764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Source Sans Pro"/>
              </a:rPr>
              <a:t>convenzione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4" name=""/>
          <p:cNvSpPr/>
          <p:nvPr/>
        </p:nvSpPr>
        <p:spPr>
          <a:xfrm>
            <a:off x="1440000" y="2160720"/>
            <a:ext cx="2376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ff3333"/>
                </a:solidFill>
                <a:latin typeface="Source Sans Pro"/>
              </a:rPr>
              <a:t>MIT</a:t>
            </a:r>
            <a:endParaRPr b="0" lang="en-US" sz="5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5400720"/>
            <a:ext cx="302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ff3333"/>
                </a:solidFill>
                <a:latin typeface="Source Sans Pro"/>
              </a:rPr>
              <a:t>REGIONE</a:t>
            </a:r>
            <a:endParaRPr b="0" lang="en-US" sz="5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6" name=""/>
          <p:cNvSpPr/>
          <p:nvPr/>
        </p:nvSpPr>
        <p:spPr>
          <a:xfrm>
            <a:off x="5688000" y="2160720"/>
            <a:ext cx="302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ff3333"/>
                </a:solidFill>
                <a:latin typeface="Source Sans Pro"/>
              </a:rPr>
              <a:t>REGIONE</a:t>
            </a:r>
            <a:endParaRPr b="0" lang="en-US" sz="5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7" name=""/>
          <p:cNvSpPr/>
          <p:nvPr/>
        </p:nvSpPr>
        <p:spPr>
          <a:xfrm>
            <a:off x="5616720" y="5472000"/>
            <a:ext cx="30240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ff3333"/>
                </a:solidFill>
                <a:latin typeface="Source Sans Pro"/>
              </a:rPr>
              <a:t>COMUNI</a:t>
            </a:r>
            <a:endParaRPr b="0" lang="en-US" sz="54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A16B5-79EA-4893-B1BD-2744D1012137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EROGAZIONE DA MIT A RT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287280" y="1555920"/>
          <a:ext cx="9156240" cy="5042880"/>
        </p:xfrm>
        <a:graphic>
          <a:graphicData uri="http://schemas.openxmlformats.org/drawingml/2006/table">
            <a:tbl>
              <a:tblPr/>
              <a:tblGrid>
                <a:gridCol w="2729160"/>
                <a:gridCol w="6427080"/>
              </a:tblGrid>
              <a:tr h="1495440">
                <a:tc>
                  <a:txBody>
                    <a:bodyPr lIns="90000" rIns="90000" tIns="1504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TICIPAZIONE</a:t>
                      </a:r>
                      <a:br>
                        <a:rPr sz="2400"/>
                      </a:b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algn="ctr">
                        <a:lnSpc>
                          <a:spcPct val="119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2456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OPO REGISTRAZIONE DELLA CONVENZIONE RT/MIT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E CARICAMENTO DI CIASCUN INTERVENTO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LLA BANCA DATI UNITARIA MEF-RGS-IGR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61400">
                <a:tc>
                  <a:txBody>
                    <a:bodyPr lIns="90000" rIns="90000" tIns="1504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AGAMENTI</a:t>
                      </a:r>
                      <a:br>
                        <a:rPr sz="2400"/>
                      </a:b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MED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algn="ctr">
                        <a:lnSpc>
                          <a:spcPct val="119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algn="ctr">
                        <a:lnSpc>
                          <a:spcPct val="119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2456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IMBORSO DELLE SPESE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EFFETTIVAMENTE SOSTENUTE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(dati sistema unitario monitoraggio, quote non inferiori al 5% 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86040">
                <a:tc>
                  <a:txBody>
                    <a:bodyPr lIns="90000" rIns="90000" tIns="1504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L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algn="ctr">
                        <a:lnSpc>
                          <a:spcPct val="119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2456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AGAMENTO FINALE A SEGUITO DI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ATTESTAZIONE DI CHIUSURA DELL’INTERV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E83A1-92EE-4059-92C5-2FE17873A2F9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5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ntributo statal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6" name="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12782" t="14506" r="4166" b="25490"/>
          <a:stretch/>
        </p:blipFill>
        <p:spPr>
          <a:xfrm>
            <a:off x="576360" y="1584360"/>
            <a:ext cx="885492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46B65-4F44-4987-AE17-8C4B6CBF3496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1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NVENZIONE RT- ENTI ATTUATORI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9481" t="47647" r="15088" b="25678"/>
          <a:stretch/>
        </p:blipFill>
        <p:spPr>
          <a:xfrm>
            <a:off x="647640" y="2303640"/>
            <a:ext cx="91663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96E8D-940B-466E-8DD9-71A30B31BBEB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7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Tempi di attuazione OGV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8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1c1c1c"/>
                </a:solidFill>
                <a:latin typeface="Source Sans Pro Semibold"/>
              </a:rPr>
              <a:t>31/12/2021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 assumere le</a:t>
            </a:r>
            <a:r>
              <a:rPr b="1" lang="it-IT" sz="3200" spc="-1" strike="noStrike">
                <a:solidFill>
                  <a:srgbClr val="1c1c1c"/>
                </a:solidFill>
                <a:latin typeface="Source Sans Pro Semibold"/>
              </a:rPr>
              <a:t> obbligazioni giuridicamente vincolanti,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 inerenti a ciascuno degli interventi, pena la </a:t>
            </a:r>
            <a:r>
              <a:rPr b="1" lang="it-IT" sz="3200" spc="-1" strike="noStrike">
                <a:solidFill>
                  <a:srgbClr val="1c1c1c"/>
                </a:solidFill>
                <a:latin typeface="Source Sans Pro Semibold"/>
              </a:rPr>
              <a:t>revoca delle risorse assegnate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 per gli stessi </a:t>
            </a:r>
            <a:r>
              <a:rPr b="0" i="1" lang="it-IT" sz="2800" spc="-1" strike="noStrike">
                <a:solidFill>
                  <a:srgbClr val="1c1c1c"/>
                </a:solidFill>
                <a:latin typeface="Source Sans Pro Semibold"/>
              </a:rPr>
              <a:t>(sufficiente che sia intervenuta la proposta di aggiudicazione)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,</a:t>
            </a:r>
            <a:r>
              <a:rPr b="0" lang="it-IT" sz="2600" spc="-1" strike="noStrike">
                <a:solidFill>
                  <a:srgbClr val="1c1c1c"/>
                </a:solidFill>
                <a:latin typeface="Source Sans Pro Semibold"/>
              </a:rPr>
              <a:t> salvo aggiornamenti o proroghe del termine stabiliti da Delibere CIPE e da fonti legislative.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9103B-D64A-45A9-A1D7-64511E3536C7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2" name="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Tempi di attuazione Cronoprogramm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3" name=""/>
          <p:cNvSpPr/>
          <p:nvPr/>
        </p:nvSpPr>
        <p:spPr>
          <a:xfrm>
            <a:off x="36036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1c1c1c"/>
                </a:solidFill>
                <a:latin typeface="Source Sans Pro Semibold"/>
              </a:rPr>
              <a:t>Rispetto del cronoprogramma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, fermi restando gli obblighi imposti dalle Delibere CIPE (</a:t>
            </a:r>
            <a:r>
              <a:rPr b="0" i="1" lang="it-IT" sz="3200" spc="-1" strike="noStrike">
                <a:solidFill>
                  <a:srgbClr val="1c1c1c"/>
                </a:solidFill>
                <a:latin typeface="Source Sans Pro Semibold"/>
              </a:rPr>
              <a:t>comunque entro 2025  certificato di ultimazione dei lavori</a:t>
            </a:r>
            <a:r>
              <a:rPr b="0" lang="it-IT" sz="3200" spc="-1" strike="noStrike">
                <a:solidFill>
                  <a:srgbClr val="1c1c1c"/>
                </a:solidFill>
                <a:latin typeface="Source Sans Pro Semibol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  <a:p>
            <a:pPr marL="343080" indent="-33192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1T09:09:36Z</dcterms:created>
  <dc:creator>Alessandro Romei</dc:creator>
  <dc:description/>
  <dc:language>en-US</dc:language>
  <cp:lastModifiedBy/>
  <cp:lastPrinted>2018-04-12T09:36:50Z</cp:lastPrinted>
  <dcterms:modified xsi:type="dcterms:W3CDTF">2019-05-14T10:25:47Z</dcterms:modified>
  <cp:revision>20</cp:revision>
  <dc:subject/>
  <dc:title>Manutenzione del sistema integrato  Ciclopista dell’Arno  - Sentiero della Bonifica</dc:title>
</cp:coreProperties>
</file>