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9" name="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4277880" y="10156320"/>
            <a:ext cx="3267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3B504-0BDC-45AE-8DE8-BF7250C9032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271F6-6CF3-4B32-9DFF-15D02A9A180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6E6BA-4AB9-4A86-8FC2-5A107D8A231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FE0C0-D8D1-40C1-B47C-F833DFC8821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A4445-E16D-4D7B-A9B8-A3E2FD4D485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F1A5B-F837-4CEA-BCC2-EBFDF38D2C8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92C6A-52C7-4E4B-A0E6-62777BD7AC9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D183C-E762-4F12-86FB-284BF3ABF11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65502-C4F2-40FF-B26F-1A6D6C7FB8C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C3103-5BDF-4321-87FE-B6DEB8A7CDD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D46E0-730C-4F19-B8B4-FD64C77795B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3FCD4-3363-40CF-AE55-817A3F52BE1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8119E-7608-44AD-AA57-AA907E3D9A9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95D2B-418F-4D04-8C5B-5E9C79CF06C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4CD3A-2A6C-40EE-A693-3C793251760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3D793-B9C9-4898-9436-2C2524B4620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198F9-4C7E-48BD-915A-A161F5925DE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3405F-C47C-4F49-A930-CA5593E7369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D10B6-3DC5-4EFE-8FFD-A7DB9EDA159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C227C-A8DF-45FD-84A4-BD4A313FB71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DC97-2EFD-4930-9C6F-495C0517CEA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BC5C2-26F3-4132-8A14-B1812631666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4D4B3-68BF-4DA2-8608-61ACAEB1315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1FE4E-1AED-4B7B-B12A-019278CFE0A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B16CA-D0F3-473B-A1C9-364E078EFA8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87245-28FC-4139-9A98-DC4FD87A1AF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8116A-28BD-4640-B4EA-98F8D58E155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26CA3-2983-47A3-9DB4-72C7A5AA1C7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5784-776F-4910-A327-140F76F2A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1A3F-95C1-49FD-B6BC-E95ECC0AF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942E-BD29-4FF9-BA47-739FE85F9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960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884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960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884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B6F9-93E2-4074-B879-B08BC48F1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5BF8-8EC1-4F8C-BAC2-3CA2B4FD4B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3AC9-5C2E-497C-9687-2553ACD26F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C447-EBC0-460F-917E-3498DF7062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61F4-7BBE-4170-AC94-202765C8E7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7265-31F4-4E1D-AB4A-74A0EC865F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4560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8C0C-CD98-4F8B-A8E0-A16A538EAB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8572-80A7-4E69-8E18-E1FDAD427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B7A9-9109-4BA7-A15A-345A7DD53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9228-DE28-414A-BD76-77E9B35075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307E-DFA0-47BE-8B9B-C941389641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62F01-FE3F-4EFB-AADE-969BA4F7E3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356F-A507-429D-B27A-637A157009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5960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5884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36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5960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5884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4FE1-B54F-4F9E-82D0-5A169AD41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72C3-85F3-4A99-8726-0D05A64FA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773F-831E-4DEF-9E3C-84F993BAD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D1DF-F88B-43B9-AA07-CDDA86A2A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4560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7B05-E89F-450E-9F76-DE4D638C1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930B-DFFF-4B07-A9E1-8A7172ABD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947D-501D-45DE-93A8-FD9DD859F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DC4D-31F6-4CC6-BDDD-78B48248E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"/>
          <p:cNvSpPr/>
          <p:nvPr/>
        </p:nvSpPr>
        <p:spPr>
          <a:xfrm>
            <a:off x="7559640" y="6840360"/>
            <a:ext cx="23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179280" y="6840360"/>
            <a:ext cx="525600" cy="5256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A49946A-7FFD-4D1E-A6E9-10B97D363D97}" type="slidenum">
              <a: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4560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640" y="4680000"/>
            <a:ext cx="9166320" cy="25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"/>
          <p:cNvSpPr/>
          <p:nvPr/>
        </p:nvSpPr>
        <p:spPr>
          <a:xfrm>
            <a:off x="7559640" y="6840360"/>
            <a:ext cx="23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9" name="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179280" y="6840360"/>
            <a:ext cx="52560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7210FDC-65D0-4330-8B44-BA90794FCD92}" type="slidenum">
              <a: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iano Operativo FSC 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frastrutture 2014-2020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75160" y="243000"/>
            <a:ext cx="52560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E43EF-A9F4-4159-913B-DE2A380EA504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Cronoprogramm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8" name=""/>
          <p:cNvSpPr/>
          <p:nvPr/>
        </p:nvSpPr>
        <p:spPr>
          <a:xfrm>
            <a:off x="144360" y="1727280"/>
            <a:ext cx="9936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La Regione può autorizzare modifiche al cronoprogramma  comunicando tempestivamente tali modifiche al Ministero, fermo restando i limiti temporali previsti dalle Delibere CIPE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Il Ministero può revocare il finanziamentoper il mancato rispetto del cronoprogramma  dovuto a fatti o atti che impediscano l’utilizzo delle risorse disponibili entro 24 mesi dal termine previsto per la fine dell’esecuzione dei lavori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42906-FDD9-4045-A3AB-1460891453B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- modell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0720" y="1728720"/>
            <a:ext cx="8567640" cy="48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52B2B-4ADD-4261-BD74-C82ED1E7BF1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Cavrigl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0" t="9131" r="0" b="0"/>
          <a:stretch/>
        </p:blipFill>
        <p:spPr>
          <a:xfrm>
            <a:off x="506520" y="2087640"/>
            <a:ext cx="89978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215C0-285D-4F17-85AD-D291FA98B383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igline e Incisa Valdarn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39680" y="1725480"/>
            <a:ext cx="95806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00F0B-1AA2-4465-A0B6-3EF0801C0E93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ontassiev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1200" y="1625760"/>
            <a:ext cx="9442440" cy="47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384A9-3B97-4FCE-A2AB-542AA12C6EAA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99880" y="1511280"/>
            <a:ext cx="9485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AF877-E2B2-45B3-AB8F-9E8E599F6FC4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ansepolcr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20720" y="1584360"/>
            <a:ext cx="855648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8E4B9-B9B0-4756-BE37-1B88ED1913EC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inalung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-11160" y="1517760"/>
            <a:ext cx="10078920" cy="50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E951F-A577-405A-B5E6-C187A1493FB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Montignos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480" y="1787400"/>
            <a:ext cx="9802800" cy="48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10BA6-34BA-4002-9E18-50EC1C35FD2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an Mini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28720" y="1519200"/>
            <a:ext cx="65534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35721-9971-49BB-9791-6C57EC7D81B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Delibere CIP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1° dicembre 2016, n. 54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Piano Operativo Infrastrutture FSC 2014/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2 dicembre 2017, n. 98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primo Addendum al P. O. Infr. FSC 2014-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8 febbraio 2018, n. 12,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secondo Addendum al P. O. Infr. FSC 2014-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8 febbraio 2018, n. 26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ggiorna le regole di funzionamento del Fondo per lo sviluppo e la coesione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DFBB6-89C1-4921-996E-C02ABFE979E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Calcina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8520" y="1757520"/>
            <a:ext cx="903276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52A30-DB55-472E-9C98-8588174F6BB0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9039A-6ECA-4ADF-A183-E2CD5D242C40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9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3A8F5-FBF2-46A3-8DCC-5018F398099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CA37F-FB96-4940-BE8A-860AB99A183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9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16BF0-A2DD-4789-AD43-3D0CA772EF88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0893C-8EDE-4582-9ACE-BFB3DBC5B16F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80880" y="1555920"/>
          <a:ext cx="9057960" cy="5101560"/>
        </p:xfrm>
        <a:graphic>
          <a:graphicData uri="http://schemas.openxmlformats.org/drawingml/2006/table">
            <a:tbl>
              <a:tblPr/>
              <a:tblGrid>
                <a:gridCol w="3461400"/>
                <a:gridCol w="5596560"/>
              </a:tblGrid>
              <a:tr h="2460960">
                <a:tc rowSpan="2">
                  <a:txBody>
                    <a:bodyPr lIns="90000" rIns="90000" tIns="17175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4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</a:t>
                      </a:r>
                      <a:r>
                        <a:rPr b="1" lang="it-IT" sz="4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0209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…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64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209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…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00117-FCEF-47F0-A962-D9A157A9E39A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terventi finanziabil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5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87200" y="1627200"/>
          <a:ext cx="9573840" cy="5317920"/>
        </p:xfrm>
        <a:graphic>
          <a:graphicData uri="http://schemas.openxmlformats.org/drawingml/2006/table">
            <a:tbl>
              <a:tblPr/>
              <a:tblGrid>
                <a:gridCol w="3037320"/>
                <a:gridCol w="6536520"/>
              </a:tblGrid>
              <a:tr h="1276560">
                <a:tc rowSpan="4">
                  <a:txBody>
                    <a:bodyPr lIns="90000" rIns="90000" tIns="88164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06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28241-63DF-449E-9026-C8F16C93786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Decreto DD RT n.2364 del 20-02-2019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4520" y="1944720"/>
            <a:ext cx="99504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56672-2482-422F-BB9C-13CD95DDFCF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VENZION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80880" y="1555920"/>
          <a:ext cx="9062640" cy="5109480"/>
        </p:xfrm>
        <a:graphic>
          <a:graphicData uri="http://schemas.openxmlformats.org/drawingml/2006/table">
            <a:tbl>
              <a:tblPr/>
              <a:tblGrid>
                <a:gridCol w="4509000"/>
                <a:gridCol w="4553640"/>
              </a:tblGrid>
              <a:tr h="5109480">
                <a:tc>
                  <a:txBody>
                    <a:bodyPr lIns="90000" rIns="90000" tIns="17175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7175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087640" y="3168720"/>
            <a:ext cx="1081080" cy="2160360"/>
          </a:xfrm>
          <a:prstGeom prst="upDownArrow">
            <a:avLst>
              <a:gd name="adj1" fmla="val 50000"/>
              <a:gd name="adj2" fmla="val 3978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0" name=""/>
          <p:cNvSpPr/>
          <p:nvPr/>
        </p:nvSpPr>
        <p:spPr>
          <a:xfrm>
            <a:off x="1728720" y="395928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Source Sans Pro"/>
              </a:rPr>
              <a:t>convenzione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2" name=""/>
          <p:cNvSpPr/>
          <p:nvPr/>
        </p:nvSpPr>
        <p:spPr>
          <a:xfrm>
            <a:off x="6622920" y="3276720"/>
            <a:ext cx="1081080" cy="2160360"/>
          </a:xfrm>
          <a:prstGeom prst="upDownArrow">
            <a:avLst>
              <a:gd name="adj1" fmla="val 50000"/>
              <a:gd name="adj2" fmla="val 3978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3" name=""/>
          <p:cNvSpPr/>
          <p:nvPr/>
        </p:nvSpPr>
        <p:spPr>
          <a:xfrm>
            <a:off x="6264360" y="406872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Source Sans Pro"/>
              </a:rPr>
              <a:t>convenzione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4" name=""/>
          <p:cNvSpPr/>
          <p:nvPr/>
        </p:nvSpPr>
        <p:spPr>
          <a:xfrm>
            <a:off x="1440000" y="2160720"/>
            <a:ext cx="237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MIT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400720"/>
            <a:ext cx="30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REGIONE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6" name=""/>
          <p:cNvSpPr/>
          <p:nvPr/>
        </p:nvSpPr>
        <p:spPr>
          <a:xfrm>
            <a:off x="5688000" y="2160720"/>
            <a:ext cx="30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REGIONE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7" name=""/>
          <p:cNvSpPr/>
          <p:nvPr/>
        </p:nvSpPr>
        <p:spPr>
          <a:xfrm>
            <a:off x="5616720" y="5472000"/>
            <a:ext cx="3024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COMUNI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7E69C-40A6-4CE0-B993-CA62BD6F4E0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EROGAZIONE DA MIT A RT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87280" y="1555920"/>
          <a:ext cx="9156240" cy="5042880"/>
        </p:xfrm>
        <a:graphic>
          <a:graphicData uri="http://schemas.openxmlformats.org/drawingml/2006/table">
            <a:tbl>
              <a:tblPr/>
              <a:tblGrid>
                <a:gridCol w="2729160"/>
                <a:gridCol w="6427080"/>
              </a:tblGrid>
              <a:tr h="149544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TICIPAZIONE</a:t>
                      </a:r>
                      <a:br>
                        <a:rPr sz="2400"/>
                      </a:b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OPO REGISTRAZIONE DELLA CONVENZIONE RT/MIT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 CARICAMENTO DI CIASCUN INTERVENTO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LLA BANCA DATI UNITARIA MEF-RGS-IGR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6140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AGAMENTI</a:t>
                      </a:r>
                      <a:br>
                        <a:rPr sz="2400"/>
                      </a:b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MED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IMBORSO DELLE SPESE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FFETTIVAMENTE SOSTENUTE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dati sistema unitario monitoraggio, quote non inferiori al 5%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8604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L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AGAMENTO FINALE A SEGUITO DI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ATTESTAZIONE DI CHIUSURA DELL’INTERV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207DE-B5D1-41DD-9403-07F8B16532D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tributo statal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6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12782" t="14506" r="4166" b="25490"/>
          <a:stretch/>
        </p:blipFill>
        <p:spPr>
          <a:xfrm>
            <a:off x="576360" y="1584360"/>
            <a:ext cx="885492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172D1-EF34-4B06-ABC9-7313CDB9E687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1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VENZIONE RT- ENTI ATTUATOR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9481" t="47647" r="15088" b="25678"/>
          <a:stretch/>
        </p:blipFill>
        <p:spPr>
          <a:xfrm>
            <a:off x="647640" y="2303640"/>
            <a:ext cx="91663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2AFAE-99E0-454F-97DF-3EBC112425A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OGV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8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31/12/2021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assumere le</a:t>
            </a: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 obbligazioni giuridicamente vincolanti,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inerenti a ciascuno degli interventi, pena la </a:t>
            </a: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revoca delle risorse assegnate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per gli stessi </a:t>
            </a:r>
            <a:r>
              <a:rPr b="0" i="1" lang="it-IT" sz="2800" spc="-1" strike="noStrike">
                <a:solidFill>
                  <a:srgbClr val="1c1c1c"/>
                </a:solidFill>
                <a:latin typeface="Source Sans Pro Semibold"/>
              </a:rPr>
              <a:t>(sufficiente che sia intervenuta la proposta di aggiudicazione)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,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salvo aggiornamenti o proroghe del termine stabiliti da Delibere CIPE e da fonti legislative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EC9C7-DA2E-4B73-8C3D-E716BFA1267A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Cronoprogramm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3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Rispetto del cronoprogramma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, fermi restando gli obblighi imposti dalle Delibere CIPE (</a:t>
            </a:r>
            <a:r>
              <a:rPr b="0" i="1" lang="it-IT" sz="3200" spc="-1" strike="noStrike">
                <a:solidFill>
                  <a:srgbClr val="1c1c1c"/>
                </a:solidFill>
                <a:latin typeface="Source Sans Pro Semibold"/>
              </a:rPr>
              <a:t>comunque entro 2025  certificato di ultimazione dei lavori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1T09:09:36Z</dcterms:created>
  <dc:creator>Alessandro Romei</dc:creator>
  <dc:description/>
  <dc:language>en-US</dc:language>
  <cp:lastModifiedBy/>
  <cp:lastPrinted>2018-04-12T09:36:50Z</cp:lastPrinted>
  <dcterms:modified xsi:type="dcterms:W3CDTF">2019-05-14T10:25:47Z</dcterms:modified>
  <cp:revision>20</cp:revision>
  <dc:subject/>
  <dc:title>Manutenzione del sistema integrato  Ciclopista dell’Arno  - Sentiero della Bonifica</dc:title>
</cp:coreProperties>
</file>